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DF3-50CF-40B2-B4F5-BAB743B6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E11-6590-4AB5-9337-357C9D0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AECD-BD9E-4E9B-9954-B57C47E1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35C-AC16-4CAB-BED6-29ADE16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746-6DF8-48BF-BF9E-3BF9B2C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5EB-AFA4-46A9-8F52-03AD935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443-6147-4D3C-9D83-6248E96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EF1-B94F-4BC8-BE5B-B325DAF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140-2778-441F-94FA-7DCED19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B86-558F-47C3-BCF7-D6FCEFB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CA8-D750-4676-B286-B5D8729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879-F1D5-4C91-A3B1-0DBE0A4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Modern20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dern20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5B2-3EF3-4A7B-88BE-4FBC2378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05520" y="3886200"/>
          <a:ext cx="365760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886200"/>
                    <a:ext cx="36576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Intro to Desig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eorgia"/>
              </a:rPr>
              <a:t>Concepts for Message Design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roximity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1828800"/>
            <a:ext cx="4343400" cy="3809880"/>
            <a:chOff x="4038480" y="1828800"/>
            <a:chExt cx="4343400" cy="3809880"/>
          </a:xfrm>
        </p:grpSpPr>
        <p:sp>
          <p:nvSpPr>
            <p:cNvPr id="132" name=""/>
            <p:cNvSpPr/>
            <p:nvPr/>
          </p:nvSpPr>
          <p:spPr>
            <a:xfrm>
              <a:off x="4038480" y="1828800"/>
              <a:ext cx="4343400" cy="380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095880" y="4267080"/>
            <a:ext cx="127008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426708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4495680" y="4343400"/>
            <a:ext cx="127008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343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181480" y="320040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3200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6781680" y="320040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81680" y="3200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867280" y="2057400"/>
            <a:ext cx="1270080" cy="9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7280" y="20574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3" name=""/>
          <p:cNvGraphicFramePr/>
          <p:nvPr/>
        </p:nvGraphicFramePr>
        <p:xfrm>
          <a:off x="762120" y="2286000"/>
          <a:ext cx="126972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286000"/>
                    <a:ext cx="1269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85800" y="2895480"/>
            <a:ext cx="1828800" cy="3200400"/>
            <a:chOff x="685800" y="2895480"/>
            <a:chExt cx="1828800" cy="3200400"/>
          </a:xfrm>
        </p:grpSpPr>
        <p:sp>
          <p:nvSpPr>
            <p:cNvPr id="148" name=""/>
            <p:cNvSpPr/>
            <p:nvPr/>
          </p:nvSpPr>
          <p:spPr>
            <a:xfrm>
              <a:off x="685800" y="2895480"/>
              <a:ext cx="182880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914400" y="2895480"/>
            <a:ext cx="126972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89548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914400" y="3962160"/>
            <a:ext cx="126972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396216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914400" y="5029200"/>
            <a:ext cx="126972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14400" y="502920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5" name=""/>
          <p:cNvGraphicFramePr/>
          <p:nvPr/>
        </p:nvGraphicFramePr>
        <p:xfrm>
          <a:off x="5334120" y="914400"/>
          <a:ext cx="3403440" cy="25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914400"/>
                    <a:ext cx="34034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utting it all together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81480" y="3124080"/>
          <a:ext cx="127008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1240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38080" y="380880"/>
            <a:ext cx="5867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lbertus Extra Bold"/>
              </a:rPr>
              <a:t>C.A.R.P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43800" y="3276720"/>
          <a:ext cx="127008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32767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The Four Principles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ontras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Alignmen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Repetition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Proximity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2133720"/>
          <a:ext cx="3200400" cy="21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133720"/>
                    <a:ext cx="320040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ontras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Draws the ey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Must be significan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olor, shape, siz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81680" y="396252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9625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Contras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3000" y="3279600"/>
          <a:ext cx="3657600" cy="24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9600"/>
                    <a:ext cx="365760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343400" y="1828800"/>
            <a:ext cx="4267080" cy="2590920"/>
            <a:chOff x="4343400" y="1828800"/>
            <a:chExt cx="4267080" cy="2590920"/>
          </a:xfrm>
        </p:grpSpPr>
        <p:sp>
          <p:nvSpPr>
            <p:cNvPr id="63" name=""/>
            <p:cNvSpPr/>
            <p:nvPr/>
          </p:nvSpPr>
          <p:spPr>
            <a:xfrm>
              <a:off x="4343400" y="1828800"/>
              <a:ext cx="4267080" cy="259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6705720" y="2895480"/>
            <a:ext cx="126972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2895480"/>
                      <a:ext cx="12697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715000" y="182880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5000" y="1828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952880" y="304812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30481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Alignmen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Left or Right is stronger than Center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The eye draws the lin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Align to a strong element on the pag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629400" y="434340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3434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518148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1814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Alignment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553080" y="525780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52578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553080" y="274320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7432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943600" y="3733920"/>
          <a:ext cx="187956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733920"/>
                    <a:ext cx="18795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172200" y="1447920"/>
          <a:ext cx="1650960" cy="12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1447920"/>
                    <a:ext cx="16509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Repetitio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Creates rhythm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Provides continuity within longer works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Balances contras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324480" y="533412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41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086600" y="434340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43434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4343400"/>
          <a:ext cx="1269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343400"/>
                    <a:ext cx="1269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505320" y="1905120"/>
            <a:ext cx="4724280" cy="3276360"/>
            <a:chOff x="3505320" y="1905120"/>
            <a:chExt cx="4724280" cy="3276360"/>
          </a:xfrm>
        </p:grpSpPr>
        <p:sp>
          <p:nvSpPr>
            <p:cNvPr id="102" name=""/>
            <p:cNvSpPr/>
            <p:nvPr/>
          </p:nvSpPr>
          <p:spPr>
            <a:xfrm>
              <a:off x="3505320" y="1905120"/>
              <a:ext cx="4724280" cy="32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6629400" y="2133720"/>
            <a:ext cx="127008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9400" y="21337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886200" y="4114800"/>
            <a:ext cx="127008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4114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886200" y="2133720"/>
            <a:ext cx="127008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213372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6629400" y="4114800"/>
            <a:ext cx="1270080" cy="95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29400" y="4114800"/>
                      <a:ext cx="12700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Repetition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14600" y="2971800"/>
          <a:ext cx="1270080" cy="9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29718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257800" y="3048120"/>
          <a:ext cx="1270080" cy="9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30481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lbertus Extra Bold"/>
              </a:rPr>
              <a:t>Proximity</a:t>
            </a:r>
            <a:endParaRPr b="0" lang="en-US" sz="4400" spc="-1" strike="noStrike">
              <a:solidFill>
                <a:srgbClr val="000099"/>
              </a:solidFill>
              <a:latin typeface="Albertus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Group items that relate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DON’T group items that DON’T 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dern20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odern20 BT"/>
              </a:rPr>
              <a:t>White space pushes elements apart</a:t>
            </a:r>
            <a:endParaRPr b="1" lang="en-US" sz="3200" spc="-1" strike="noStrike">
              <a:solidFill>
                <a:srgbClr val="000099"/>
              </a:solidFill>
              <a:latin typeface="Modern20 BT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72200" y="5638680"/>
          <a:ext cx="12700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63868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543800" y="4876920"/>
          <a:ext cx="12700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8769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629400" y="3886200"/>
          <a:ext cx="12700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388620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410080" y="4648320"/>
          <a:ext cx="127008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648320"/>
                    <a:ext cx="12700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1048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Linda</cp:lastModifiedBy>
  <dcterms:modified xsi:type="dcterms:W3CDTF">2008-06-28T18:36:34Z</dcterms:modified>
  <cp:revision>10</cp:revision>
  <dc:subject/>
  <dc:title>Intro to Design</dc:title>
</cp:coreProperties>
</file>